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5B63-D791-4069-A705-6E0F7CAFF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6F21-C807-4741-B217-2BFEF3447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D9C7-878A-4ABF-850D-FF6BFF923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5261-546A-421B-8EAA-FB2CE3D24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7E73-BE22-47FA-9997-B6E5298AA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371C-0FBB-414F-BD94-CFF65A387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A37B-F409-4489-B234-3E77A8CA3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1085-CDB4-4063-983B-49C6D6435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2B08-0E8C-42A9-B87F-CD7116DAC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D975-7084-4ED1-A42A-FB9B1D38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C915-EBC3-4488-AC1F-3084F960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0804-C907-441D-A062-EAB265A9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27E0F-2605-4466-8F57-D6F6ADF56B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38280" y="9144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form sentence HMM for de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629400" y="63244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ita Singh, May 10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2" name=""/>
          <p:cNvCxnSpPr>
            <a:stCxn id="598" idx="3"/>
            <a:endCxn id="619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3" name=""/>
          <p:cNvCxnSpPr>
            <a:stCxn id="601" idx="3"/>
            <a:endCxn id="619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4" name=""/>
          <p:cNvCxnSpPr>
            <a:stCxn id="604" idx="3"/>
            <a:endCxn id="619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5" name=""/>
          <p:cNvCxnSpPr>
            <a:stCxn id="607" idx="3"/>
            <a:endCxn id="619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6" name=""/>
          <p:cNvCxnSpPr>
            <a:stCxn id="619" idx="3"/>
            <a:endCxn id="616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7" name=""/>
          <p:cNvCxnSpPr>
            <a:stCxn id="619" idx="3"/>
            <a:endCxn id="613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8" name=""/>
          <p:cNvCxnSpPr>
            <a:stCxn id="619" idx="3"/>
            <a:endCxn id="610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9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4" name=""/>
          <p:cNvCxnSpPr>
            <a:stCxn id="630" idx="3"/>
            <a:endCxn id="651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5" name=""/>
          <p:cNvCxnSpPr>
            <a:stCxn id="633" idx="3"/>
            <a:endCxn id="651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6" name=""/>
          <p:cNvCxnSpPr>
            <a:stCxn id="636" idx="3"/>
            <a:endCxn id="651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7" name=""/>
          <p:cNvCxnSpPr>
            <a:stCxn id="639" idx="3"/>
            <a:endCxn id="651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8" name=""/>
          <p:cNvCxnSpPr>
            <a:stCxn id="651" idx="3"/>
            <a:endCxn id="648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9" name=""/>
          <p:cNvCxnSpPr>
            <a:stCxn id="651" idx="3"/>
            <a:endCxn id="645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0" name=""/>
          <p:cNvCxnSpPr>
            <a:stCxn id="651" idx="3"/>
            <a:endCxn id="642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1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5" name=""/>
          <p:cNvCxnSpPr>
            <a:stCxn id="661" idx="3"/>
            <a:endCxn id="682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6" name=""/>
          <p:cNvCxnSpPr>
            <a:stCxn id="664" idx="3"/>
            <a:endCxn id="682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7" name=""/>
          <p:cNvCxnSpPr>
            <a:stCxn id="667" idx="3"/>
            <a:endCxn id="682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8" name=""/>
          <p:cNvCxnSpPr>
            <a:stCxn id="670" idx="3"/>
            <a:endCxn id="682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9" name=""/>
          <p:cNvCxnSpPr>
            <a:stCxn id="682" idx="3"/>
            <a:endCxn id="679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0" name=""/>
          <p:cNvCxnSpPr>
            <a:stCxn id="682" idx="3"/>
            <a:endCxn id="676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1" name=""/>
          <p:cNvCxnSpPr>
            <a:stCxn id="682" idx="3"/>
            <a:endCxn id="673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2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4" name=""/>
          <p:cNvCxnSpPr>
            <a:stCxn id="616" idx="3"/>
            <a:endCxn id="630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5" name=""/>
          <p:cNvSpPr/>
          <p:nvPr/>
        </p:nvSpPr>
        <p:spPr>
          <a:xfrm>
            <a:off x="6324480" y="4952880"/>
            <a:ext cx="2590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Linking r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6" name=""/>
          <p:cNvCxnSpPr>
            <a:stCxn id="613" idx="3"/>
            <a:endCxn id="661" idx="1"/>
          </p:cNvCxnSpPr>
          <p:nvPr/>
        </p:nvCxnSpPr>
        <p:spPr>
          <a:xfrm flipH="1">
            <a:off x="3123720" y="1295280"/>
            <a:ext cx="1982160" cy="2820240"/>
          </a:xfrm>
          <a:prstGeom prst="bentConnector5">
            <a:avLst>
              <a:gd name="adj1" fmla="val -15694"/>
              <a:gd name="adj2" fmla="val 93961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7" name=""/>
          <p:cNvCxnSpPr>
            <a:stCxn id="616" idx="3"/>
            <a:endCxn id="598" idx="1"/>
          </p:cNvCxnSpPr>
          <p:nvPr/>
        </p:nvCxnSpPr>
        <p:spPr>
          <a:xfrm flipH="1">
            <a:off x="3123720" y="914400"/>
            <a:ext cx="1982160" cy="2160"/>
          </a:xfrm>
          <a:prstGeom prst="bentConnector5">
            <a:avLst>
              <a:gd name="adj1" fmla="val -11534"/>
              <a:gd name="adj2" fmla="val -1920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8" name=""/>
          <p:cNvCxnSpPr>
            <a:stCxn id="610" idx="3"/>
            <a:endCxn id="692" idx="1"/>
          </p:cNvCxnSpPr>
          <p:nvPr/>
        </p:nvCxnSpPr>
        <p:spPr>
          <a:xfrm flipH="1">
            <a:off x="4038120" y="1676520"/>
            <a:ext cx="1067760" cy="4115520"/>
          </a:xfrm>
          <a:prstGeom prst="bentConnector5">
            <a:avLst>
              <a:gd name="adj1" fmla="val -41214"/>
              <a:gd name="adj2" fmla="val 94943"/>
              <a:gd name="adj3" fmla="val 2102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9" name=""/>
          <p:cNvCxnSpPr>
            <a:stCxn id="610" idx="3"/>
            <a:endCxn id="693" idx="1"/>
          </p:cNvCxnSpPr>
          <p:nvPr/>
        </p:nvCxnSpPr>
        <p:spPr>
          <a:xfrm flipH="1">
            <a:off x="4038120" y="1676160"/>
            <a:ext cx="1067760" cy="4725000"/>
          </a:xfrm>
          <a:prstGeom prst="bentConnector5">
            <a:avLst>
              <a:gd name="adj1" fmla="val -42091"/>
              <a:gd name="adj2" fmla="val 96434"/>
              <a:gd name="adj3" fmla="val 2072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0" name=""/>
          <p:cNvCxnSpPr>
            <a:stCxn id="642" idx="3"/>
            <a:endCxn id="692" idx="1"/>
          </p:cNvCxnSpPr>
          <p:nvPr/>
        </p:nvCxnSpPr>
        <p:spPr>
          <a:xfrm flipH="1">
            <a:off x="4038120" y="3276360"/>
            <a:ext cx="1067760" cy="2515320"/>
          </a:xfrm>
          <a:prstGeom prst="bentConnector5">
            <a:avLst>
              <a:gd name="adj1" fmla="val -53861"/>
              <a:gd name="adj2" fmla="val 90022"/>
              <a:gd name="adj3" fmla="val 2288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1" name=""/>
          <p:cNvCxnSpPr>
            <a:stCxn id="645" idx="3"/>
            <a:endCxn id="664" idx="1"/>
          </p:cNvCxnSpPr>
          <p:nvPr/>
        </p:nvCxnSpPr>
        <p:spPr>
          <a:xfrm flipH="1">
            <a:off x="3123720" y="2895120"/>
            <a:ext cx="1982160" cy="1600920"/>
          </a:xfrm>
          <a:prstGeom prst="bentConnector5">
            <a:avLst>
              <a:gd name="adj1" fmla="val -33642"/>
              <a:gd name="adj2" fmla="val 61088"/>
              <a:gd name="adj3" fmla="val 118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2" name=""/>
          <p:cNvCxnSpPr>
            <a:stCxn id="642" idx="3"/>
            <a:endCxn id="693" idx="1"/>
          </p:cNvCxnSpPr>
          <p:nvPr/>
        </p:nvCxnSpPr>
        <p:spPr>
          <a:xfrm flipH="1">
            <a:off x="4038120" y="3276720"/>
            <a:ext cx="1067760" cy="3124800"/>
          </a:xfrm>
          <a:prstGeom prst="bentConnector5">
            <a:avLst>
              <a:gd name="adj1" fmla="val -50860"/>
              <a:gd name="adj2" fmla="val 92015"/>
              <a:gd name="adj3" fmla="val 2270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3" name=""/>
          <p:cNvCxnSpPr>
            <a:stCxn id="673" idx="3"/>
            <a:endCxn id="692" idx="1"/>
          </p:cNvCxnSpPr>
          <p:nvPr/>
        </p:nvCxnSpPr>
        <p:spPr>
          <a:xfrm flipH="1">
            <a:off x="4038120" y="4876920"/>
            <a:ext cx="1067760" cy="915120"/>
          </a:xfrm>
          <a:prstGeom prst="bentConnector5">
            <a:avLst>
              <a:gd name="adj1" fmla="val -21416"/>
              <a:gd name="adj2" fmla="val 64738"/>
              <a:gd name="adj3" fmla="val 242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4" name=""/>
          <p:cNvCxnSpPr>
            <a:stCxn id="673" idx="3"/>
            <a:endCxn id="693" idx="1"/>
          </p:cNvCxnSpPr>
          <p:nvPr/>
        </p:nvCxnSpPr>
        <p:spPr>
          <a:xfrm flipH="1">
            <a:off x="4038120" y="4876560"/>
            <a:ext cx="1067760" cy="1524600"/>
          </a:xfrm>
          <a:prstGeom prst="bentConnector5">
            <a:avLst>
              <a:gd name="adj1" fmla="val -21416"/>
              <a:gd name="adj2" fmla="val 75389"/>
              <a:gd name="adj3" fmla="val 244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5" name=""/>
          <p:cNvCxnSpPr>
            <a:stCxn id="648" idx="3"/>
            <a:endCxn id="633" idx="1"/>
          </p:cNvCxnSpPr>
          <p:nvPr/>
        </p:nvCxnSpPr>
        <p:spPr>
          <a:xfrm flipH="1">
            <a:off x="3123720" y="2514600"/>
            <a:ext cx="1982160" cy="381600"/>
          </a:xfrm>
          <a:prstGeom prst="bentConnector5">
            <a:avLst>
              <a:gd name="adj1" fmla="val -11534"/>
              <a:gd name="adj2" fmla="val 49952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6" name=""/>
          <p:cNvCxnSpPr>
            <a:stCxn id="648" idx="3"/>
            <a:endCxn id="601" idx="1"/>
          </p:cNvCxnSpPr>
          <p:nvPr/>
        </p:nvCxnSpPr>
        <p:spPr>
          <a:xfrm flipH="1" flipV="1">
            <a:off x="3123720" y="1294560"/>
            <a:ext cx="1982160" cy="1220040"/>
          </a:xfrm>
          <a:prstGeom prst="bentConnector5">
            <a:avLst>
              <a:gd name="adj1" fmla="val -7211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7" name=""/>
          <p:cNvCxnSpPr>
            <a:stCxn id="679" idx="3"/>
            <a:endCxn id="604" idx="1"/>
          </p:cNvCxnSpPr>
          <p:nvPr/>
        </p:nvCxnSpPr>
        <p:spPr>
          <a:xfrm flipH="1" flipV="1">
            <a:off x="3123720" y="1675800"/>
            <a:ext cx="1982160" cy="2439000"/>
          </a:xfrm>
          <a:prstGeom prst="bentConnector5">
            <a:avLst>
              <a:gd name="adj1" fmla="val -11534"/>
              <a:gd name="adj2" fmla="val 11573"/>
              <a:gd name="adj3" fmla="val 1332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8" name=""/>
          <p:cNvCxnSpPr>
            <a:stCxn id="679" idx="3"/>
            <a:endCxn id="636" idx="1"/>
          </p:cNvCxnSpPr>
          <p:nvPr/>
        </p:nvCxnSpPr>
        <p:spPr>
          <a:xfrm flipH="1" flipV="1">
            <a:off x="3123720" y="3276360"/>
            <a:ext cx="1982160" cy="838800"/>
          </a:xfrm>
          <a:prstGeom prst="bentConnector5">
            <a:avLst>
              <a:gd name="adj1" fmla="val -2888"/>
              <a:gd name="adj2" fmla="val 7252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676" idx="3"/>
            <a:endCxn id="667" idx="1"/>
          </p:cNvCxnSpPr>
          <p:nvPr/>
        </p:nvCxnSpPr>
        <p:spPr>
          <a:xfrm flipH="1">
            <a:off x="3123720" y="4495320"/>
            <a:ext cx="1982160" cy="381960"/>
          </a:xfrm>
          <a:prstGeom prst="bentConnector5">
            <a:avLst>
              <a:gd name="adj1" fmla="val -11534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0" name=""/>
          <p:cNvCxnSpPr>
            <a:stCxn id="692" idx="3"/>
            <a:endCxn id="670" idx="1"/>
          </p:cNvCxnSpPr>
          <p:nvPr/>
        </p:nvCxnSpPr>
        <p:spPr>
          <a:xfrm flipH="1" flipV="1">
            <a:off x="3123720" y="5257440"/>
            <a:ext cx="1067760" cy="534240"/>
          </a:xfrm>
          <a:prstGeom prst="bentConnector5">
            <a:avLst>
              <a:gd name="adj1" fmla="val -21416"/>
              <a:gd name="adj2" fmla="val 130613"/>
              <a:gd name="adj3" fmla="val 1786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1" name=""/>
          <p:cNvCxnSpPr>
            <a:stCxn id="692" idx="3"/>
            <a:endCxn id="639" idx="1"/>
          </p:cNvCxnSpPr>
          <p:nvPr/>
        </p:nvCxnSpPr>
        <p:spPr>
          <a:xfrm flipH="1" flipV="1">
            <a:off x="3123720" y="3656880"/>
            <a:ext cx="1067760" cy="2134440"/>
          </a:xfrm>
          <a:prstGeom prst="bentConnector5">
            <a:avLst>
              <a:gd name="adj1" fmla="val -21416"/>
              <a:gd name="adj2" fmla="val 33248"/>
              <a:gd name="adj3" fmla="val 2116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2" name=""/>
          <p:cNvCxnSpPr>
            <a:stCxn id="692" idx="3"/>
            <a:endCxn id="607" idx="1"/>
          </p:cNvCxnSpPr>
          <p:nvPr/>
        </p:nvCxnSpPr>
        <p:spPr>
          <a:xfrm flipH="1" flipV="1">
            <a:off x="3123720" y="2057040"/>
            <a:ext cx="1067760" cy="3734640"/>
          </a:xfrm>
          <a:prstGeom prst="bentConnector5">
            <a:avLst>
              <a:gd name="adj1" fmla="val -21416"/>
              <a:gd name="adj2" fmla="val 18490"/>
              <a:gd name="adj3" fmla="val 2309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3" name=""/>
          <p:cNvCxnSpPr>
            <a:stCxn id="692" idx="3"/>
            <a:endCxn id="692" idx="1"/>
          </p:cNvCxnSpPr>
          <p:nvPr/>
        </p:nvCxnSpPr>
        <p:spPr>
          <a:xfrm flipH="1">
            <a:off x="4038120" y="5791320"/>
            <a:ext cx="153360" cy="2160"/>
          </a:xfrm>
          <a:prstGeom prst="bentConnector5">
            <a:avLst>
              <a:gd name="adj1" fmla="val -149882"/>
              <a:gd name="adj2" fmla="val -44400000"/>
              <a:gd name="adj3" fmla="val 16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4" name=""/>
          <p:cNvCxnSpPr>
            <a:stCxn id="692" idx="3"/>
            <a:endCxn id="693" idx="1"/>
          </p:cNvCxnSpPr>
          <p:nvPr/>
        </p:nvCxnSpPr>
        <p:spPr>
          <a:xfrm flipH="1">
            <a:off x="4038120" y="5790960"/>
            <a:ext cx="153360" cy="610200"/>
          </a:xfrm>
          <a:prstGeom prst="bentConnector5">
            <a:avLst>
              <a:gd name="adj1" fmla="val -149882"/>
              <a:gd name="adj2" fmla="val 23671"/>
              <a:gd name="adj3" fmla="val 14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5" name=""/>
          <p:cNvCxnSpPr>
            <a:stCxn id="693" idx="3"/>
            <a:endCxn id="693" idx="1"/>
          </p:cNvCxnSpPr>
          <p:nvPr/>
        </p:nvCxnSpPr>
        <p:spPr>
          <a:xfrm flipH="1">
            <a:off x="4038120" y="6400800"/>
            <a:ext cx="153360" cy="2160"/>
          </a:xfrm>
          <a:prstGeom prst="bentConnector5">
            <a:avLst>
              <a:gd name="adj1" fmla="val -149882"/>
              <a:gd name="adj2" fmla="val 15900000"/>
              <a:gd name="adj3" fmla="val 2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6" name=""/>
          <p:cNvCxnSpPr>
            <a:stCxn id="693" idx="3"/>
            <a:endCxn id="692" idx="1"/>
          </p:cNvCxnSpPr>
          <p:nvPr/>
        </p:nvCxnSpPr>
        <p:spPr>
          <a:xfrm flipH="1" flipV="1">
            <a:off x="4038120" y="5790600"/>
            <a:ext cx="153360" cy="610200"/>
          </a:xfrm>
          <a:prstGeom prst="bentConnector5">
            <a:avLst>
              <a:gd name="adj1" fmla="val -161411"/>
              <a:gd name="adj2" fmla="val -55194"/>
              <a:gd name="adj3" fmla="val 20091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7" name=""/>
          <p:cNvCxnSpPr>
            <a:stCxn id="693" idx="3"/>
            <a:endCxn id="667" idx="1"/>
          </p:cNvCxnSpPr>
          <p:nvPr/>
        </p:nvCxnSpPr>
        <p:spPr>
          <a:xfrm flipH="1" flipV="1">
            <a:off x="3123720" y="4876200"/>
            <a:ext cx="1067760" cy="1524600"/>
          </a:xfrm>
          <a:prstGeom prst="bentConnector5">
            <a:avLst>
              <a:gd name="adj1" fmla="val -21416"/>
              <a:gd name="adj2" fmla="val -21752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8" name=""/>
          <p:cNvCxnSpPr>
            <a:stCxn id="693" idx="3"/>
            <a:endCxn id="639" idx="1"/>
          </p:cNvCxnSpPr>
          <p:nvPr/>
        </p:nvCxnSpPr>
        <p:spPr>
          <a:xfrm flipH="1" flipV="1">
            <a:off x="3123720" y="3657240"/>
            <a:ext cx="1067760" cy="2743920"/>
          </a:xfrm>
          <a:prstGeom prst="bentConnector5">
            <a:avLst>
              <a:gd name="adj1" fmla="val -21416"/>
              <a:gd name="adj2" fmla="val -12780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9" name=""/>
          <p:cNvCxnSpPr>
            <a:stCxn id="693" idx="3"/>
            <a:endCxn id="607" idx="1"/>
          </p:cNvCxnSpPr>
          <p:nvPr/>
        </p:nvCxnSpPr>
        <p:spPr>
          <a:xfrm flipH="1" flipV="1">
            <a:off x="3123720" y="2057040"/>
            <a:ext cx="1067760" cy="4343760"/>
          </a:xfrm>
          <a:prstGeom prst="bentConnector5">
            <a:avLst>
              <a:gd name="adj1" fmla="val -21416"/>
              <a:gd name="adj2" fmla="val -8072"/>
              <a:gd name="adj3" fmla="val 3294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9" name=""/>
          <p:cNvCxnSpPr>
            <a:stCxn id="735" idx="3"/>
            <a:endCxn id="756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0" name=""/>
          <p:cNvCxnSpPr>
            <a:stCxn id="738" idx="3"/>
            <a:endCxn id="756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1" name=""/>
          <p:cNvCxnSpPr>
            <a:stCxn id="741" idx="3"/>
            <a:endCxn id="756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2" name=""/>
          <p:cNvCxnSpPr>
            <a:stCxn id="744" idx="3"/>
            <a:endCxn id="756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3" name=""/>
          <p:cNvCxnSpPr>
            <a:stCxn id="756" idx="3"/>
            <a:endCxn id="753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4" name=""/>
          <p:cNvCxnSpPr>
            <a:stCxn id="756" idx="3"/>
            <a:endCxn id="750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5" name=""/>
          <p:cNvCxnSpPr>
            <a:stCxn id="756" idx="3"/>
            <a:endCxn id="747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1" name=""/>
          <p:cNvCxnSpPr>
            <a:stCxn id="767" idx="3"/>
            <a:endCxn id="788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2" name=""/>
          <p:cNvCxnSpPr>
            <a:stCxn id="770" idx="3"/>
            <a:endCxn id="788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3" name=""/>
          <p:cNvCxnSpPr>
            <a:stCxn id="773" idx="3"/>
            <a:endCxn id="788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4" name=""/>
          <p:cNvCxnSpPr>
            <a:stCxn id="776" idx="3"/>
            <a:endCxn id="788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5" name=""/>
          <p:cNvCxnSpPr>
            <a:stCxn id="788" idx="3"/>
            <a:endCxn id="785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6" name=""/>
          <p:cNvCxnSpPr>
            <a:stCxn id="788" idx="3"/>
            <a:endCxn id="782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7" name=""/>
          <p:cNvCxnSpPr>
            <a:stCxn id="788" idx="3"/>
            <a:endCxn id="779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8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2" name=""/>
          <p:cNvCxnSpPr>
            <a:stCxn id="798" idx="3"/>
            <a:endCxn id="819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3" name=""/>
          <p:cNvCxnSpPr>
            <a:stCxn id="801" idx="3"/>
            <a:endCxn id="819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4" name=""/>
          <p:cNvCxnSpPr>
            <a:stCxn id="804" idx="3"/>
            <a:endCxn id="819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5" name=""/>
          <p:cNvCxnSpPr>
            <a:stCxn id="807" idx="3"/>
            <a:endCxn id="819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6" name=""/>
          <p:cNvCxnSpPr>
            <a:stCxn id="819" idx="3"/>
            <a:endCxn id="816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7" name=""/>
          <p:cNvCxnSpPr>
            <a:stCxn id="819" idx="3"/>
            <a:endCxn id="813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8" name=""/>
          <p:cNvCxnSpPr>
            <a:stCxn id="819" idx="3"/>
            <a:endCxn id="810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9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1" name=""/>
          <p:cNvCxnSpPr>
            <a:stCxn id="753" idx="3"/>
            <a:endCxn id="767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2" name=""/>
          <p:cNvSpPr/>
          <p:nvPr/>
        </p:nvSpPr>
        <p:spPr>
          <a:xfrm>
            <a:off x="6324480" y="4952880"/>
            <a:ext cx="2590920" cy="16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All linking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 goes to all sile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con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ilence right contexts go to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3" name=""/>
          <p:cNvCxnSpPr>
            <a:stCxn id="750" idx="3"/>
            <a:endCxn id="798" idx="1"/>
          </p:cNvCxnSpPr>
          <p:nvPr/>
        </p:nvCxnSpPr>
        <p:spPr>
          <a:xfrm flipH="1">
            <a:off x="3123720" y="1295280"/>
            <a:ext cx="1982160" cy="2820240"/>
          </a:xfrm>
          <a:prstGeom prst="bentConnector5">
            <a:avLst>
              <a:gd name="adj1" fmla="val -15694"/>
              <a:gd name="adj2" fmla="val 93961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4" name=""/>
          <p:cNvCxnSpPr>
            <a:stCxn id="753" idx="3"/>
            <a:endCxn id="735" idx="1"/>
          </p:cNvCxnSpPr>
          <p:nvPr/>
        </p:nvCxnSpPr>
        <p:spPr>
          <a:xfrm flipH="1">
            <a:off x="3123720" y="914400"/>
            <a:ext cx="1982160" cy="2160"/>
          </a:xfrm>
          <a:prstGeom prst="bentConnector5">
            <a:avLst>
              <a:gd name="adj1" fmla="val -11534"/>
              <a:gd name="adj2" fmla="val -1920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5" name=""/>
          <p:cNvCxnSpPr>
            <a:stCxn id="747" idx="3"/>
            <a:endCxn id="829" idx="1"/>
          </p:cNvCxnSpPr>
          <p:nvPr/>
        </p:nvCxnSpPr>
        <p:spPr>
          <a:xfrm flipH="1">
            <a:off x="4038120" y="1676520"/>
            <a:ext cx="1067760" cy="4115520"/>
          </a:xfrm>
          <a:prstGeom prst="bentConnector5">
            <a:avLst>
              <a:gd name="adj1" fmla="val -41214"/>
              <a:gd name="adj2" fmla="val 94943"/>
              <a:gd name="adj3" fmla="val 2102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6" name=""/>
          <p:cNvCxnSpPr>
            <a:stCxn id="747" idx="3"/>
            <a:endCxn id="830" idx="1"/>
          </p:cNvCxnSpPr>
          <p:nvPr/>
        </p:nvCxnSpPr>
        <p:spPr>
          <a:xfrm flipH="1">
            <a:off x="4038120" y="1676160"/>
            <a:ext cx="1067760" cy="4725000"/>
          </a:xfrm>
          <a:prstGeom prst="bentConnector5">
            <a:avLst>
              <a:gd name="adj1" fmla="val -42091"/>
              <a:gd name="adj2" fmla="val 96434"/>
              <a:gd name="adj3" fmla="val 2072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7" name=""/>
          <p:cNvCxnSpPr>
            <a:stCxn id="779" idx="3"/>
            <a:endCxn id="829" idx="1"/>
          </p:cNvCxnSpPr>
          <p:nvPr/>
        </p:nvCxnSpPr>
        <p:spPr>
          <a:xfrm flipH="1">
            <a:off x="4038120" y="3276360"/>
            <a:ext cx="1067760" cy="2515320"/>
          </a:xfrm>
          <a:prstGeom prst="bentConnector5">
            <a:avLst>
              <a:gd name="adj1" fmla="val -53861"/>
              <a:gd name="adj2" fmla="val 90022"/>
              <a:gd name="adj3" fmla="val 2288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8" name=""/>
          <p:cNvCxnSpPr>
            <a:stCxn id="782" idx="3"/>
            <a:endCxn id="801" idx="1"/>
          </p:cNvCxnSpPr>
          <p:nvPr/>
        </p:nvCxnSpPr>
        <p:spPr>
          <a:xfrm flipH="1">
            <a:off x="3123720" y="2895120"/>
            <a:ext cx="1982160" cy="1600920"/>
          </a:xfrm>
          <a:prstGeom prst="bentConnector5">
            <a:avLst>
              <a:gd name="adj1" fmla="val -33642"/>
              <a:gd name="adj2" fmla="val 61088"/>
              <a:gd name="adj3" fmla="val 118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9" name=""/>
          <p:cNvCxnSpPr>
            <a:stCxn id="779" idx="3"/>
            <a:endCxn id="830" idx="1"/>
          </p:cNvCxnSpPr>
          <p:nvPr/>
        </p:nvCxnSpPr>
        <p:spPr>
          <a:xfrm flipH="1">
            <a:off x="4038120" y="3276720"/>
            <a:ext cx="1067760" cy="3124800"/>
          </a:xfrm>
          <a:prstGeom prst="bentConnector5">
            <a:avLst>
              <a:gd name="adj1" fmla="val -50860"/>
              <a:gd name="adj2" fmla="val 92015"/>
              <a:gd name="adj3" fmla="val 2270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0" name=""/>
          <p:cNvCxnSpPr>
            <a:stCxn id="810" idx="3"/>
            <a:endCxn id="829" idx="1"/>
          </p:cNvCxnSpPr>
          <p:nvPr/>
        </p:nvCxnSpPr>
        <p:spPr>
          <a:xfrm flipH="1">
            <a:off x="4038120" y="4876920"/>
            <a:ext cx="1067760" cy="915120"/>
          </a:xfrm>
          <a:prstGeom prst="bentConnector5">
            <a:avLst>
              <a:gd name="adj1" fmla="val -21416"/>
              <a:gd name="adj2" fmla="val 64738"/>
              <a:gd name="adj3" fmla="val 242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1" name=""/>
          <p:cNvCxnSpPr>
            <a:stCxn id="810" idx="3"/>
            <a:endCxn id="830" idx="1"/>
          </p:cNvCxnSpPr>
          <p:nvPr/>
        </p:nvCxnSpPr>
        <p:spPr>
          <a:xfrm flipH="1">
            <a:off x="4038120" y="4876560"/>
            <a:ext cx="1067760" cy="1524600"/>
          </a:xfrm>
          <a:prstGeom prst="bentConnector5">
            <a:avLst>
              <a:gd name="adj1" fmla="val -21416"/>
              <a:gd name="adj2" fmla="val 75389"/>
              <a:gd name="adj3" fmla="val 244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2" name=""/>
          <p:cNvCxnSpPr>
            <a:stCxn id="785" idx="3"/>
            <a:endCxn id="770" idx="1"/>
          </p:cNvCxnSpPr>
          <p:nvPr/>
        </p:nvCxnSpPr>
        <p:spPr>
          <a:xfrm flipH="1">
            <a:off x="3123720" y="2514600"/>
            <a:ext cx="1982160" cy="381600"/>
          </a:xfrm>
          <a:prstGeom prst="bentConnector5">
            <a:avLst>
              <a:gd name="adj1" fmla="val -11534"/>
              <a:gd name="adj2" fmla="val 49952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3" name=""/>
          <p:cNvCxnSpPr>
            <a:stCxn id="785" idx="3"/>
            <a:endCxn id="738" idx="1"/>
          </p:cNvCxnSpPr>
          <p:nvPr/>
        </p:nvCxnSpPr>
        <p:spPr>
          <a:xfrm flipH="1" flipV="1">
            <a:off x="3123720" y="1294560"/>
            <a:ext cx="1982160" cy="1220040"/>
          </a:xfrm>
          <a:prstGeom prst="bentConnector5">
            <a:avLst>
              <a:gd name="adj1" fmla="val -7211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4" name=""/>
          <p:cNvCxnSpPr>
            <a:stCxn id="816" idx="3"/>
            <a:endCxn id="741" idx="1"/>
          </p:cNvCxnSpPr>
          <p:nvPr/>
        </p:nvCxnSpPr>
        <p:spPr>
          <a:xfrm flipH="1" flipV="1">
            <a:off x="3123720" y="1675800"/>
            <a:ext cx="1982160" cy="2439000"/>
          </a:xfrm>
          <a:prstGeom prst="bentConnector5">
            <a:avLst>
              <a:gd name="adj1" fmla="val -11534"/>
              <a:gd name="adj2" fmla="val 11573"/>
              <a:gd name="adj3" fmla="val 1332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5" name=""/>
          <p:cNvCxnSpPr>
            <a:stCxn id="816" idx="3"/>
            <a:endCxn id="773" idx="1"/>
          </p:cNvCxnSpPr>
          <p:nvPr/>
        </p:nvCxnSpPr>
        <p:spPr>
          <a:xfrm flipH="1" flipV="1">
            <a:off x="3123720" y="3276360"/>
            <a:ext cx="1982160" cy="838800"/>
          </a:xfrm>
          <a:prstGeom prst="bentConnector5">
            <a:avLst>
              <a:gd name="adj1" fmla="val -2888"/>
              <a:gd name="adj2" fmla="val 7252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6" name=""/>
          <p:cNvCxnSpPr>
            <a:stCxn id="813" idx="3"/>
            <a:endCxn id="804" idx="1"/>
          </p:cNvCxnSpPr>
          <p:nvPr/>
        </p:nvCxnSpPr>
        <p:spPr>
          <a:xfrm flipH="1">
            <a:off x="3123720" y="4495320"/>
            <a:ext cx="1982160" cy="381960"/>
          </a:xfrm>
          <a:prstGeom prst="bentConnector5">
            <a:avLst>
              <a:gd name="adj1" fmla="val -11534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7" name=""/>
          <p:cNvCxnSpPr>
            <a:stCxn id="829" idx="3"/>
            <a:endCxn id="807" idx="1"/>
          </p:cNvCxnSpPr>
          <p:nvPr/>
        </p:nvCxnSpPr>
        <p:spPr>
          <a:xfrm flipH="1" flipV="1">
            <a:off x="3123720" y="5257440"/>
            <a:ext cx="1067760" cy="534240"/>
          </a:xfrm>
          <a:prstGeom prst="bentConnector5">
            <a:avLst>
              <a:gd name="adj1" fmla="val -21416"/>
              <a:gd name="adj2" fmla="val 130613"/>
              <a:gd name="adj3" fmla="val 1786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8" name=""/>
          <p:cNvCxnSpPr>
            <a:stCxn id="829" idx="3"/>
            <a:endCxn id="776" idx="1"/>
          </p:cNvCxnSpPr>
          <p:nvPr/>
        </p:nvCxnSpPr>
        <p:spPr>
          <a:xfrm flipH="1" flipV="1">
            <a:off x="3123720" y="3656880"/>
            <a:ext cx="1067760" cy="2134440"/>
          </a:xfrm>
          <a:prstGeom prst="bentConnector5">
            <a:avLst>
              <a:gd name="adj1" fmla="val -21416"/>
              <a:gd name="adj2" fmla="val 33248"/>
              <a:gd name="adj3" fmla="val 2116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9" name=""/>
          <p:cNvCxnSpPr>
            <a:stCxn id="829" idx="3"/>
            <a:endCxn id="744" idx="1"/>
          </p:cNvCxnSpPr>
          <p:nvPr/>
        </p:nvCxnSpPr>
        <p:spPr>
          <a:xfrm flipH="1" flipV="1">
            <a:off x="3123720" y="2057040"/>
            <a:ext cx="1067760" cy="3734640"/>
          </a:xfrm>
          <a:prstGeom prst="bentConnector5">
            <a:avLst>
              <a:gd name="adj1" fmla="val -21416"/>
              <a:gd name="adj2" fmla="val 18490"/>
              <a:gd name="adj3" fmla="val 2309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0" name=""/>
          <p:cNvCxnSpPr>
            <a:stCxn id="829" idx="3"/>
            <a:endCxn id="829" idx="1"/>
          </p:cNvCxnSpPr>
          <p:nvPr/>
        </p:nvCxnSpPr>
        <p:spPr>
          <a:xfrm flipH="1">
            <a:off x="4038120" y="5791320"/>
            <a:ext cx="153360" cy="2160"/>
          </a:xfrm>
          <a:prstGeom prst="bentConnector5">
            <a:avLst>
              <a:gd name="adj1" fmla="val -149882"/>
              <a:gd name="adj2" fmla="val -44400000"/>
              <a:gd name="adj3" fmla="val 16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1" name=""/>
          <p:cNvCxnSpPr>
            <a:stCxn id="829" idx="3"/>
            <a:endCxn id="830" idx="1"/>
          </p:cNvCxnSpPr>
          <p:nvPr/>
        </p:nvCxnSpPr>
        <p:spPr>
          <a:xfrm flipH="1">
            <a:off x="4038120" y="5790960"/>
            <a:ext cx="153360" cy="610200"/>
          </a:xfrm>
          <a:prstGeom prst="bentConnector5">
            <a:avLst>
              <a:gd name="adj1" fmla="val -149882"/>
              <a:gd name="adj2" fmla="val 23671"/>
              <a:gd name="adj3" fmla="val 14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2" name=""/>
          <p:cNvCxnSpPr>
            <a:stCxn id="830" idx="3"/>
            <a:endCxn id="830" idx="1"/>
          </p:cNvCxnSpPr>
          <p:nvPr/>
        </p:nvCxnSpPr>
        <p:spPr>
          <a:xfrm flipH="1">
            <a:off x="4038120" y="6400800"/>
            <a:ext cx="153360" cy="2160"/>
          </a:xfrm>
          <a:prstGeom prst="bentConnector5">
            <a:avLst>
              <a:gd name="adj1" fmla="val -149882"/>
              <a:gd name="adj2" fmla="val 15900000"/>
              <a:gd name="adj3" fmla="val 2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3" name=""/>
          <p:cNvCxnSpPr>
            <a:stCxn id="830" idx="3"/>
            <a:endCxn id="829" idx="1"/>
          </p:cNvCxnSpPr>
          <p:nvPr/>
        </p:nvCxnSpPr>
        <p:spPr>
          <a:xfrm flipH="1" flipV="1">
            <a:off x="4038120" y="5790600"/>
            <a:ext cx="153360" cy="610200"/>
          </a:xfrm>
          <a:prstGeom prst="bentConnector5">
            <a:avLst>
              <a:gd name="adj1" fmla="val -161411"/>
              <a:gd name="adj2" fmla="val -55194"/>
              <a:gd name="adj3" fmla="val 20091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4" name=""/>
          <p:cNvCxnSpPr>
            <a:stCxn id="830" idx="3"/>
            <a:endCxn id="804" idx="1"/>
          </p:cNvCxnSpPr>
          <p:nvPr/>
        </p:nvCxnSpPr>
        <p:spPr>
          <a:xfrm flipH="1" flipV="1">
            <a:off x="3123720" y="4876200"/>
            <a:ext cx="1067760" cy="1524600"/>
          </a:xfrm>
          <a:prstGeom prst="bentConnector5">
            <a:avLst>
              <a:gd name="adj1" fmla="val -21416"/>
              <a:gd name="adj2" fmla="val -21752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5" name=""/>
          <p:cNvCxnSpPr>
            <a:stCxn id="830" idx="3"/>
            <a:endCxn id="776" idx="1"/>
          </p:cNvCxnSpPr>
          <p:nvPr/>
        </p:nvCxnSpPr>
        <p:spPr>
          <a:xfrm flipH="1" flipV="1">
            <a:off x="3123720" y="3657240"/>
            <a:ext cx="1067760" cy="2743920"/>
          </a:xfrm>
          <a:prstGeom prst="bentConnector5">
            <a:avLst>
              <a:gd name="adj1" fmla="val -21416"/>
              <a:gd name="adj2" fmla="val -12780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6" name=""/>
          <p:cNvCxnSpPr>
            <a:stCxn id="830" idx="3"/>
            <a:endCxn id="744" idx="1"/>
          </p:cNvCxnSpPr>
          <p:nvPr/>
        </p:nvCxnSpPr>
        <p:spPr>
          <a:xfrm flipH="1" flipV="1">
            <a:off x="3123720" y="2057040"/>
            <a:ext cx="1067760" cy="4343760"/>
          </a:xfrm>
          <a:prstGeom prst="bentConnector5">
            <a:avLst>
              <a:gd name="adj1" fmla="val -21416"/>
              <a:gd name="adj2" fmla="val -8072"/>
              <a:gd name="adj3" fmla="val 3294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7" name=""/>
          <p:cNvSpPr/>
          <p:nvPr/>
        </p:nvSpPr>
        <p:spPr>
          <a:xfrm>
            <a:off x="214920" y="642960"/>
            <a:ext cx="5875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62120" y="838080"/>
            <a:ext cx="236196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62120" y="838080"/>
            <a:ext cx="3276360" cy="495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2120" y="838080"/>
            <a:ext cx="3276360" cy="556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2120" y="838080"/>
            <a:ext cx="236196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097680" y="762120"/>
            <a:ext cx="45216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62120" y="838080"/>
            <a:ext cx="2286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4" name=""/>
          <p:cNvCxnSpPr>
            <a:stCxn id="747" idx="3"/>
            <a:endCxn id="862" idx="1"/>
          </p:cNvCxnSpPr>
          <p:nvPr/>
        </p:nvCxnSpPr>
        <p:spPr>
          <a:xfrm flipV="1">
            <a:off x="5105160" y="899280"/>
            <a:ext cx="991080" cy="7772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5" name=""/>
          <p:cNvCxnSpPr>
            <a:stCxn id="779" idx="3"/>
            <a:endCxn id="862" idx="1"/>
          </p:cNvCxnSpPr>
          <p:nvPr/>
        </p:nvCxnSpPr>
        <p:spPr>
          <a:xfrm flipV="1">
            <a:off x="5105160" y="899640"/>
            <a:ext cx="991080" cy="2377440"/>
          </a:xfrm>
          <a:prstGeom prst="curvedConnector5">
            <a:avLst>
              <a:gd name="adj1" fmla="val 50000"/>
              <a:gd name="adj2" fmla="val 49992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6" name=""/>
          <p:cNvCxnSpPr>
            <a:stCxn id="810" idx="3"/>
          </p:cNvCxnSpPr>
          <p:nvPr/>
        </p:nvCxnSpPr>
        <p:spPr>
          <a:xfrm flipV="1">
            <a:off x="5105520" y="1142640"/>
            <a:ext cx="1219680" cy="3734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7" name=""/>
          <p:cNvCxnSpPr>
            <a:stCxn id="830" idx="3"/>
            <a:endCxn id="862" idx="3"/>
          </p:cNvCxnSpPr>
          <p:nvPr/>
        </p:nvCxnSpPr>
        <p:spPr>
          <a:xfrm flipV="1">
            <a:off x="4190760" y="899640"/>
            <a:ext cx="2361240" cy="5501520"/>
          </a:xfrm>
          <a:prstGeom prst="curvedConnector5">
            <a:avLst>
              <a:gd name="adj1" fmla="val 103415"/>
              <a:gd name="adj2" fmla="val 49996"/>
              <a:gd name="adj3" fmla="val 1034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8" name=""/>
          <p:cNvCxnSpPr>
            <a:stCxn id="829" idx="3"/>
            <a:endCxn id="862" idx="3"/>
          </p:cNvCxnSpPr>
          <p:nvPr/>
        </p:nvCxnSpPr>
        <p:spPr>
          <a:xfrm flipV="1">
            <a:off x="4190760" y="899280"/>
            <a:ext cx="2361240" cy="4892040"/>
          </a:xfrm>
          <a:prstGeom prst="curvedConnector5">
            <a:avLst>
              <a:gd name="adj1" fmla="val 99451"/>
              <a:gd name="adj2" fmla="val 50000"/>
              <a:gd name="adj3" fmla="val 994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1752480" y="152280"/>
            <a:ext cx="464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other perspective of the complet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4" name=""/>
          <p:cNvCxnSpPr/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5" name=""/>
          <p:cNvCxnSpPr>
            <a:stCxn id="873" idx="3"/>
            <a:endCxn id="891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6" name=""/>
          <p:cNvCxnSpPr>
            <a:stCxn id="876" idx="3"/>
            <a:endCxn id="891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7" name=""/>
          <p:cNvCxnSpPr>
            <a:stCxn id="879" idx="3"/>
            <a:endCxn id="891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8" name=""/>
          <p:cNvCxnSpPr>
            <a:stCxn id="891" idx="3"/>
            <a:endCxn id="888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9" name=""/>
          <p:cNvCxnSpPr>
            <a:stCxn id="891" idx="3"/>
            <a:endCxn id="885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0" name=""/>
          <p:cNvCxnSpPr>
            <a:stCxn id="891" idx="3"/>
            <a:endCxn id="882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5" name=""/>
          <p:cNvCxnSpPr>
            <a:stCxn id="901" idx="3"/>
            <a:endCxn id="92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6" name=""/>
          <p:cNvCxnSpPr>
            <a:stCxn id="904" idx="3"/>
            <a:endCxn id="92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7" name=""/>
          <p:cNvCxnSpPr>
            <a:stCxn id="907" idx="3"/>
            <a:endCxn id="92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8" name=""/>
          <p:cNvCxnSpPr>
            <a:stCxn id="910" idx="3"/>
            <a:endCxn id="92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9" name=""/>
          <p:cNvCxnSpPr>
            <a:stCxn id="922" idx="3"/>
            <a:endCxn id="91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0" name=""/>
          <p:cNvCxnSpPr>
            <a:stCxn id="922" idx="3"/>
            <a:endCxn id="91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1" name=""/>
          <p:cNvCxnSpPr>
            <a:stCxn id="922" idx="3"/>
            <a:endCxn id="91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2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6" name=""/>
          <p:cNvCxnSpPr>
            <a:stCxn id="932" idx="3"/>
            <a:endCxn id="953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7" name=""/>
          <p:cNvCxnSpPr>
            <a:stCxn id="935" idx="3"/>
            <a:endCxn id="953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8" name=""/>
          <p:cNvCxnSpPr>
            <a:stCxn id="938" idx="3"/>
            <a:endCxn id="953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9" name=""/>
          <p:cNvCxnSpPr>
            <a:stCxn id="941" idx="3"/>
            <a:endCxn id="953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0" name=""/>
          <p:cNvCxnSpPr>
            <a:stCxn id="953" idx="3"/>
            <a:endCxn id="950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1" name=""/>
          <p:cNvCxnSpPr>
            <a:stCxn id="953" idx="3"/>
            <a:endCxn id="947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2" name=""/>
          <p:cNvCxnSpPr>
            <a:stCxn id="953" idx="3"/>
            <a:endCxn id="944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3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14920" y="642960"/>
            <a:ext cx="5875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62120" y="838080"/>
            <a:ext cx="236196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62120" y="838080"/>
            <a:ext cx="3276360" cy="495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762120" y="838080"/>
            <a:ext cx="3276360" cy="556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62120" y="838080"/>
            <a:ext cx="236196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62120" y="838080"/>
            <a:ext cx="2286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934320" y="7621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6934320" y="9144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7010280" y="914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934320" y="114300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934320" y="12952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7010280" y="12952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934320" y="1523880"/>
            <a:ext cx="15228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934320" y="16765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010280" y="16765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934320" y="19051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934320" y="20574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010280" y="2057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934320" y="2362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934320" y="25146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010280" y="25146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934320" y="274320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934320" y="28954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010280" y="28954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934320" y="3124080"/>
            <a:ext cx="15228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934320" y="32767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010280" y="32767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934320" y="3505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934320" y="36576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010280" y="36576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934320" y="39625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934320" y="41148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010280" y="41148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934320" y="434340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934320" y="44956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7010280" y="44956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934320" y="4724280"/>
            <a:ext cx="15228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934320" y="48769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010280" y="48769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934320" y="51055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934320" y="52578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010280" y="52578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8001000" y="1752480"/>
            <a:ext cx="15228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8001000" y="1905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8077320" y="19051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8001000" y="137160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8001000" y="1523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8077320" y="15238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800100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8001000" y="1143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8077320" y="11430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8001000" y="335268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8001000" y="35053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8077320" y="35053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8001000" y="29718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8001000" y="31240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8077320" y="31240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8001000" y="25909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8001000" y="27432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80773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8001000" y="4952880"/>
            <a:ext cx="15228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8001000" y="51055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8077320" y="51055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8001000" y="457200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8001000" y="47242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8077320" y="47242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8001000" y="41911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8001000" y="4343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8077320" y="43434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8690040" y="3124080"/>
            <a:ext cx="45216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620120" y="5562720"/>
            <a:ext cx="15228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620120" y="61722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5105520" y="83808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105520" y="914400"/>
            <a:ext cx="18288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105520" y="1295280"/>
            <a:ext cx="18288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8153280" y="1905120"/>
            <a:ext cx="5335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V="1">
            <a:off x="8153280" y="320004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105520" y="1676520"/>
            <a:ext cx="2514600" cy="39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105520" y="1676520"/>
            <a:ext cx="25146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V="1">
            <a:off x="8153280" y="3276720"/>
            <a:ext cx="5335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7772400" y="3352680"/>
            <a:ext cx="106668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7772400" y="3352680"/>
            <a:ext cx="114300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V="1">
            <a:off x="5105520" y="1219320"/>
            <a:ext cx="18288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105520" y="251460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105520" y="289548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5105520" y="3276720"/>
            <a:ext cx="251460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105520" y="3276720"/>
            <a:ext cx="2590560" cy="304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flipV="1">
            <a:off x="5105520" y="1599840"/>
            <a:ext cx="182880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V="1">
            <a:off x="5105520" y="32004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105520" y="449568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105520" y="4876920"/>
            <a:ext cx="2514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105520" y="4876920"/>
            <a:ext cx="2514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V="1">
            <a:off x="4191120" y="2057400"/>
            <a:ext cx="2743200" cy="373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4191120" y="3657240"/>
            <a:ext cx="274320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4191120" y="5181480"/>
            <a:ext cx="2743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V="1">
            <a:off x="4191120" y="5638680"/>
            <a:ext cx="34290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191120" y="5791320"/>
            <a:ext cx="3429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4191120" y="2133360"/>
            <a:ext cx="2743200" cy="426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V="1">
            <a:off x="4191120" y="3657600"/>
            <a:ext cx="2743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V="1">
            <a:off x="4191120" y="5257440"/>
            <a:ext cx="2743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V="1">
            <a:off x="4191120" y="5638320"/>
            <a:ext cx="3429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4191120" y="6248160"/>
            <a:ext cx="33526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52280" y="5610240"/>
            <a:ext cx="3581640" cy="12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plications of the last two columns are just meant to simplify the diagram (yeah, right..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ely meant to unroll the structure in the previous slide, which is the correct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This completes the sentence HMM for GRAMMARLESS DIGITS DECO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0" y="461880"/>
            <a:ext cx="4572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    F AY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   F OW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    N AY 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breath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is is the assumed vocabul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51160" y="114444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887480"/>
            <a:ext cx="928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912080" y="1887480"/>
            <a:ext cx="621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6280" y="3962520"/>
            <a:ext cx="4995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s for forming sentence HM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 goes to nod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1 goes to all possible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possible words go to nod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2 goes to node1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2 goes to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9907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14479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9051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23623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28195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45" idx="3"/>
          </p:cNvCxnSpPr>
          <p:nvPr/>
        </p:nvCxnSpPr>
        <p:spPr>
          <a:xfrm>
            <a:off x="1461600" y="2115720"/>
            <a:ext cx="748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endCxn id="46" idx="1"/>
          </p:cNvCxnSpPr>
          <p:nvPr/>
        </p:nvCxnSpPr>
        <p:spPr>
          <a:xfrm>
            <a:off x="7100640" y="2115720"/>
            <a:ext cx="81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2209680" y="201924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201924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5" idx="0"/>
            <a:endCxn id="48" idx="1"/>
          </p:cNvCxnSpPr>
          <p:nvPr/>
        </p:nvCxnSpPr>
        <p:spPr>
          <a:xfrm flipH="1" flipV="1" rot="5400000">
            <a:off x="2742840" y="72360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5" idx="7"/>
            <a:endCxn id="49" idx="1"/>
          </p:cNvCxnSpPr>
          <p:nvPr/>
        </p:nvCxnSpPr>
        <p:spPr>
          <a:xfrm flipH="1" flipV="1" rot="5400000">
            <a:off x="2987280" y="99036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5" idx="6"/>
            <a:endCxn id="50" idx="1"/>
          </p:cNvCxnSpPr>
          <p:nvPr/>
        </p:nvCxnSpPr>
        <p:spPr>
          <a:xfrm>
            <a:off x="2362320" y="2095200"/>
            <a:ext cx="1676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5"/>
            <a:endCxn id="51" idx="1"/>
          </p:cNvCxnSpPr>
          <p:nvPr/>
        </p:nvCxnSpPr>
        <p:spPr>
          <a:xfrm flipH="1" rot="16200000">
            <a:off x="2987640" y="150156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4"/>
            <a:endCxn id="52" idx="1"/>
          </p:cNvCxnSpPr>
          <p:nvPr/>
        </p:nvCxnSpPr>
        <p:spPr>
          <a:xfrm flipH="1" rot="16200000">
            <a:off x="2743200" y="171432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2" idx="3"/>
            <a:endCxn id="56" idx="4"/>
          </p:cNvCxnSpPr>
          <p:nvPr/>
        </p:nvCxnSpPr>
        <p:spPr>
          <a:xfrm flipV="1">
            <a:off x="5105160" y="217152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1" idx="3"/>
            <a:endCxn id="56" idx="3"/>
          </p:cNvCxnSpPr>
          <p:nvPr/>
        </p:nvCxnSpPr>
        <p:spPr>
          <a:xfrm flipV="1">
            <a:off x="5105160" y="214920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0" idx="3"/>
            <a:endCxn id="56" idx="2"/>
          </p:cNvCxnSpPr>
          <p:nvPr/>
        </p:nvCxnSpPr>
        <p:spPr>
          <a:xfrm>
            <a:off x="5105520" y="2095200"/>
            <a:ext cx="18295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9" idx="3"/>
            <a:endCxn id="56" idx="1"/>
          </p:cNvCxnSpPr>
          <p:nvPr/>
        </p:nvCxnSpPr>
        <p:spPr>
          <a:xfrm>
            <a:off x="5105160" y="163836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48" idx="3"/>
            <a:endCxn id="56" idx="0"/>
          </p:cNvCxnSpPr>
          <p:nvPr/>
        </p:nvCxnSpPr>
        <p:spPr>
          <a:xfrm>
            <a:off x="5105160" y="118116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56" idx="5"/>
            <a:endCxn id="55" idx="3"/>
          </p:cNvCxnSpPr>
          <p:nvPr/>
        </p:nvCxnSpPr>
        <p:spPr>
          <a:xfrm rot="5400000">
            <a:off x="4646520" y="-266040"/>
            <a:ext cx="2160" cy="4833000"/>
          </a:xfrm>
          <a:prstGeom prst="bentConnector3">
            <a:avLst>
              <a:gd name="adj1" fmla="val 9378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2819520" y="7632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ing context-independent word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6920" y="2247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88400" y="217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251160" y="122076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963800"/>
            <a:ext cx="928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912080" y="1963800"/>
            <a:ext cx="621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69520" y="4572000"/>
            <a:ext cx="3937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ules for forming triphone-based sentence HMM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gin to node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de1 goes to all possible w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possible word goes to all possible w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l possible words go to node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de2 to 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10666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38480" y="15238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19810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38480" y="24382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38480" y="28954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2" idx="3"/>
          </p:cNvCxnSpPr>
          <p:nvPr/>
        </p:nvCxnSpPr>
        <p:spPr>
          <a:xfrm>
            <a:off x="1461600" y="2192040"/>
            <a:ext cx="748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endCxn id="73" idx="1"/>
          </p:cNvCxnSpPr>
          <p:nvPr/>
        </p:nvCxnSpPr>
        <p:spPr>
          <a:xfrm>
            <a:off x="7100640" y="2192040"/>
            <a:ext cx="81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2209680" y="209556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34320" y="209556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2" idx="0"/>
            <a:endCxn id="75" idx="1"/>
          </p:cNvCxnSpPr>
          <p:nvPr/>
        </p:nvCxnSpPr>
        <p:spPr>
          <a:xfrm flipH="1" flipV="1" rot="5400000">
            <a:off x="2742840" y="79992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82" idx="7"/>
            <a:endCxn id="76" idx="1"/>
          </p:cNvCxnSpPr>
          <p:nvPr/>
        </p:nvCxnSpPr>
        <p:spPr>
          <a:xfrm flipH="1" flipV="1" rot="5400000">
            <a:off x="2987280" y="106668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82" idx="6"/>
            <a:endCxn id="77" idx="1"/>
          </p:cNvCxnSpPr>
          <p:nvPr/>
        </p:nvCxnSpPr>
        <p:spPr>
          <a:xfrm>
            <a:off x="2362320" y="2171520"/>
            <a:ext cx="1676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2" idx="5"/>
            <a:endCxn id="78" idx="1"/>
          </p:cNvCxnSpPr>
          <p:nvPr/>
        </p:nvCxnSpPr>
        <p:spPr>
          <a:xfrm flipH="1" rot="16200000">
            <a:off x="2987280" y="1577520"/>
            <a:ext cx="40428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82" idx="4"/>
            <a:endCxn id="79" idx="1"/>
          </p:cNvCxnSpPr>
          <p:nvPr/>
        </p:nvCxnSpPr>
        <p:spPr>
          <a:xfrm flipH="1" rot="16200000">
            <a:off x="2742840" y="1790280"/>
            <a:ext cx="83916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79" idx="3"/>
            <a:endCxn id="83" idx="4"/>
          </p:cNvCxnSpPr>
          <p:nvPr/>
        </p:nvCxnSpPr>
        <p:spPr>
          <a:xfrm flipV="1">
            <a:off x="5105160" y="2247120"/>
            <a:ext cx="19054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78" idx="3"/>
            <a:endCxn id="83" idx="3"/>
          </p:cNvCxnSpPr>
          <p:nvPr/>
        </p:nvCxnSpPr>
        <p:spPr>
          <a:xfrm flipV="1">
            <a:off x="5105160" y="2224800"/>
            <a:ext cx="1851480" cy="404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77" idx="3"/>
            <a:endCxn id="83" idx="2"/>
          </p:cNvCxnSpPr>
          <p:nvPr/>
        </p:nvCxnSpPr>
        <p:spPr>
          <a:xfrm>
            <a:off x="5105520" y="2171520"/>
            <a:ext cx="18295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76" idx="3"/>
            <a:endCxn id="83" idx="1"/>
          </p:cNvCxnSpPr>
          <p:nvPr/>
        </p:nvCxnSpPr>
        <p:spPr>
          <a:xfrm>
            <a:off x="5105160" y="171468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75" idx="3"/>
            <a:endCxn id="83" idx="0"/>
          </p:cNvCxnSpPr>
          <p:nvPr/>
        </p:nvCxnSpPr>
        <p:spPr>
          <a:xfrm>
            <a:off x="5105160" y="125748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75" idx="3"/>
            <a:endCxn id="75" idx="1"/>
          </p:cNvCxnSpPr>
          <p:nvPr/>
        </p:nvCxnSpPr>
        <p:spPr>
          <a:xfrm flipH="1">
            <a:off x="4038120" y="1257480"/>
            <a:ext cx="1067760" cy="2160"/>
          </a:xfrm>
          <a:prstGeom prst="bentConnector5">
            <a:avLst>
              <a:gd name="adj1" fmla="val -21416"/>
              <a:gd name="adj2" fmla="val -26400000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75" idx="3"/>
            <a:endCxn id="76" idx="1"/>
          </p:cNvCxnSpPr>
          <p:nvPr/>
        </p:nvCxnSpPr>
        <p:spPr>
          <a:xfrm flipH="1">
            <a:off x="4038120" y="1257480"/>
            <a:ext cx="1067760" cy="457920"/>
          </a:xfrm>
          <a:prstGeom prst="bentConnector5">
            <a:avLst>
              <a:gd name="adj1" fmla="val -21416"/>
              <a:gd name="adj2" fmla="val 49960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75" idx="3"/>
            <a:endCxn id="77" idx="1"/>
          </p:cNvCxnSpPr>
          <p:nvPr/>
        </p:nvCxnSpPr>
        <p:spPr>
          <a:xfrm flipH="1">
            <a:off x="4038120" y="1257480"/>
            <a:ext cx="1067760" cy="915120"/>
          </a:xfrm>
          <a:prstGeom prst="bentConnector5">
            <a:avLst>
              <a:gd name="adj1" fmla="val -39123"/>
              <a:gd name="adj2" fmla="val 76347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75" idx="3"/>
            <a:endCxn id="78" idx="1"/>
          </p:cNvCxnSpPr>
          <p:nvPr/>
        </p:nvCxnSpPr>
        <p:spPr>
          <a:xfrm flipH="1">
            <a:off x="4038120" y="1257480"/>
            <a:ext cx="1067760" cy="1372320"/>
          </a:xfrm>
          <a:prstGeom prst="bentConnector5">
            <a:avLst>
              <a:gd name="adj1" fmla="val -56964"/>
              <a:gd name="adj2" fmla="val 83652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75" idx="3"/>
            <a:endCxn id="79" idx="1"/>
          </p:cNvCxnSpPr>
          <p:nvPr/>
        </p:nvCxnSpPr>
        <p:spPr>
          <a:xfrm flipH="1">
            <a:off x="4038120" y="1257480"/>
            <a:ext cx="1067760" cy="1829520"/>
          </a:xfrm>
          <a:prstGeom prst="bentConnector5">
            <a:avLst>
              <a:gd name="adj1" fmla="val -77672"/>
              <a:gd name="adj2" fmla="val 86616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"/>
          <p:cNvSpPr/>
          <p:nvPr/>
        </p:nvSpPr>
        <p:spPr>
          <a:xfrm>
            <a:off x="1906920" y="2247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88400" y="217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82280" y="3657600"/>
            <a:ext cx="659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Loops from the end of Five to the beginning of all wo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Similar loops from Four, Nine, &lt;sil&gt;, ++Breath++ present but not sh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No loop from 2 to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24768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ing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4724280"/>
            <a:ext cx="84582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A triphone is a single phone with context INFORMATION. It is not a literal sequence of 3 phones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Expand the word 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last phones (except filler) become left contexts for first phone of Fou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first phones (except filler) become right contexts for last phone of 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lence can form contexts, but itself does not have any context depend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ler phones (e.g. +breath+) are treated as silence when building contexts. Like  silence, they themselves do not have any context depend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79800" y="2971800"/>
            <a:ext cx="4342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ch triple-box represents a triphone. Each tri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 is actually a left-to-right HMM (could have 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states. Each state is a senone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stCxn id="118" idx="3"/>
            <a:endCxn id="139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21" idx="3"/>
            <a:endCxn id="139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24" idx="3"/>
            <a:endCxn id="139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27" idx="3"/>
            <a:endCxn id="139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39" idx="3"/>
            <a:endCxn id="136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39" idx="3"/>
            <a:endCxn id="133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39" idx="3"/>
            <a:endCxn id="130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6781680" y="24382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10280" y="25909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10280" y="28195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10280" y="30481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10280" y="32767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10280" y="35053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10280" y="37339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396252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010280" y="419112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153560" y="2498760"/>
            <a:ext cx="923040" cy="19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S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+breat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77" idx="3"/>
            <a:endCxn id="198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180" idx="3"/>
            <a:endCxn id="198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83" idx="3"/>
            <a:endCxn id="198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86" idx="3"/>
            <a:endCxn id="198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198" idx="3"/>
            <a:endCxn id="195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198" idx="3"/>
            <a:endCxn id="192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"/>
          <p:cNvCxnSpPr>
            <a:stCxn id="198" idx="3"/>
            <a:endCxn id="189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8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11" idx="3"/>
            <a:endCxn id="23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14" idx="3"/>
            <a:endCxn id="23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17" idx="3"/>
            <a:endCxn id="23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8" name=""/>
          <p:cNvCxnSpPr>
            <a:stCxn id="220" idx="3"/>
            <a:endCxn id="23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2" idx="3"/>
            <a:endCxn id="22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2" idx="3"/>
            <a:endCxn id="22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32" idx="3"/>
            <a:endCxn id="22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57" idx="3"/>
            <a:endCxn id="278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"/>
          <p:cNvCxnSpPr>
            <a:stCxn id="260" idx="3"/>
            <a:endCxn id="278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"/>
          <p:cNvCxnSpPr>
            <a:stCxn id="263" idx="3"/>
            <a:endCxn id="278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4" name=""/>
          <p:cNvCxnSpPr>
            <a:stCxn id="266" idx="3"/>
            <a:endCxn id="278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5" name=""/>
          <p:cNvCxnSpPr>
            <a:stCxn id="278" idx="3"/>
            <a:endCxn id="275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6" name=""/>
          <p:cNvCxnSpPr>
            <a:stCxn id="278" idx="3"/>
            <a:endCxn id="272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7" name=""/>
          <p:cNvCxnSpPr>
            <a:stCxn id="278" idx="3"/>
            <a:endCxn id="269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8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27160" y="434340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Nin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291" idx="3"/>
            <a:endCxn id="31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6" name=""/>
          <p:cNvCxnSpPr>
            <a:stCxn id="294" idx="3"/>
            <a:endCxn id="31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7" name=""/>
          <p:cNvCxnSpPr>
            <a:stCxn id="297" idx="3"/>
            <a:endCxn id="31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8" name=""/>
          <p:cNvCxnSpPr>
            <a:stCxn id="300" idx="3"/>
            <a:endCxn id="31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9" name=""/>
          <p:cNvCxnSpPr>
            <a:stCxn id="312" idx="3"/>
            <a:endCxn id="30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0" name=""/>
          <p:cNvCxnSpPr>
            <a:stCxn id="312" idx="3"/>
            <a:endCxn id="30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1" name=""/>
          <p:cNvCxnSpPr>
            <a:stCxn id="312" idx="3"/>
            <a:endCxn id="30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6" name=""/>
          <p:cNvCxnSpPr>
            <a:stCxn id="322" idx="3"/>
            <a:endCxn id="343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7" name=""/>
          <p:cNvCxnSpPr>
            <a:stCxn id="325" idx="3"/>
            <a:endCxn id="343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8" name=""/>
          <p:cNvCxnSpPr>
            <a:stCxn id="328" idx="3"/>
            <a:endCxn id="343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31" idx="3"/>
            <a:endCxn id="343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0" name=""/>
          <p:cNvCxnSpPr>
            <a:stCxn id="343" idx="3"/>
            <a:endCxn id="340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3" idx="3"/>
            <a:endCxn id="337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2" name=""/>
          <p:cNvCxnSpPr>
            <a:stCxn id="343" idx="3"/>
            <a:endCxn id="334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3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69" idx="3"/>
            <a:endCxn id="390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4" name=""/>
          <p:cNvCxnSpPr>
            <a:stCxn id="372" idx="3"/>
            <a:endCxn id="390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5" name=""/>
          <p:cNvCxnSpPr>
            <a:stCxn id="375" idx="3"/>
            <a:endCxn id="390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6" name=""/>
          <p:cNvCxnSpPr>
            <a:stCxn id="378" idx="3"/>
            <a:endCxn id="390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7" name=""/>
          <p:cNvCxnSpPr>
            <a:stCxn id="390" idx="3"/>
            <a:endCxn id="387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8" name=""/>
          <p:cNvCxnSpPr>
            <a:stCxn id="390" idx="3"/>
            <a:endCxn id="384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9" name=""/>
          <p:cNvCxnSpPr>
            <a:stCxn id="390" idx="3"/>
            <a:endCxn id="381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0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27160" y="441972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Nin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03" idx="3"/>
            <a:endCxn id="424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06" idx="3"/>
            <a:endCxn id="424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9" name=""/>
          <p:cNvCxnSpPr>
            <a:stCxn id="409" idx="3"/>
            <a:endCxn id="424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0" name=""/>
          <p:cNvCxnSpPr>
            <a:stCxn id="412" idx="3"/>
            <a:endCxn id="424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1" name=""/>
          <p:cNvCxnSpPr>
            <a:stCxn id="424" idx="3"/>
            <a:endCxn id="421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24" idx="3"/>
            <a:endCxn id="418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3" name=""/>
          <p:cNvCxnSpPr>
            <a:stCxn id="424" idx="3"/>
            <a:endCxn id="415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4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8" name=""/>
          <p:cNvCxnSpPr>
            <a:stCxn id="434" idx="3"/>
            <a:endCxn id="455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9" name=""/>
          <p:cNvCxnSpPr>
            <a:stCxn id="437" idx="3"/>
            <a:endCxn id="455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0" name=""/>
          <p:cNvCxnSpPr>
            <a:stCxn id="440" idx="3"/>
            <a:endCxn id="455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1" name=""/>
          <p:cNvCxnSpPr>
            <a:stCxn id="443" idx="3"/>
            <a:endCxn id="455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55" idx="3"/>
            <a:endCxn id="452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3" name=""/>
          <p:cNvCxnSpPr>
            <a:stCxn id="455" idx="3"/>
            <a:endCxn id="449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4" name=""/>
          <p:cNvCxnSpPr>
            <a:stCxn id="455" idx="3"/>
            <a:endCxn id="446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5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26800" y="563868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&lt;sil&gt;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24640" y="61722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++breath++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9" name=""/>
          <p:cNvCxnSpPr>
            <a:stCxn id="485" idx="3"/>
            <a:endCxn id="506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0" name=""/>
          <p:cNvCxnSpPr>
            <a:stCxn id="488" idx="3"/>
            <a:endCxn id="506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1" name=""/>
          <p:cNvCxnSpPr>
            <a:stCxn id="491" idx="3"/>
            <a:endCxn id="506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2" name=""/>
          <p:cNvCxnSpPr>
            <a:stCxn id="494" idx="3"/>
            <a:endCxn id="506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3" name=""/>
          <p:cNvCxnSpPr>
            <a:stCxn id="506" idx="3"/>
            <a:endCxn id="503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4" name=""/>
          <p:cNvCxnSpPr>
            <a:stCxn id="506" idx="3"/>
            <a:endCxn id="500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5" name=""/>
          <p:cNvCxnSpPr>
            <a:stCxn id="506" idx="3"/>
            <a:endCxn id="497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1" name=""/>
          <p:cNvCxnSpPr>
            <a:stCxn id="517" idx="3"/>
            <a:endCxn id="538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2" name=""/>
          <p:cNvCxnSpPr>
            <a:stCxn id="520" idx="3"/>
            <a:endCxn id="538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3" name=""/>
          <p:cNvCxnSpPr>
            <a:stCxn id="523" idx="3"/>
            <a:endCxn id="538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26" idx="3"/>
            <a:endCxn id="538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5" name=""/>
          <p:cNvCxnSpPr>
            <a:stCxn id="538" idx="3"/>
            <a:endCxn id="535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6" name=""/>
          <p:cNvCxnSpPr>
            <a:stCxn id="538" idx="3"/>
            <a:endCxn id="532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7" name=""/>
          <p:cNvCxnSpPr>
            <a:stCxn id="538" idx="3"/>
            <a:endCxn id="529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8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2" name=""/>
          <p:cNvCxnSpPr>
            <a:stCxn id="548" idx="3"/>
            <a:endCxn id="569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3" name=""/>
          <p:cNvCxnSpPr>
            <a:stCxn id="551" idx="3"/>
            <a:endCxn id="569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4" name=""/>
          <p:cNvCxnSpPr>
            <a:stCxn id="554" idx="3"/>
            <a:endCxn id="569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5" name=""/>
          <p:cNvCxnSpPr>
            <a:stCxn id="557" idx="3"/>
            <a:endCxn id="569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6" name=""/>
          <p:cNvCxnSpPr>
            <a:stCxn id="569" idx="3"/>
            <a:endCxn id="566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7" name=""/>
          <p:cNvCxnSpPr>
            <a:stCxn id="569" idx="3"/>
            <a:endCxn id="563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8" name=""/>
          <p:cNvCxnSpPr>
            <a:stCxn id="569" idx="3"/>
            <a:endCxn id="560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9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1" name=""/>
          <p:cNvCxnSpPr>
            <a:stCxn id="503" idx="3"/>
            <a:endCxn id="517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2" name=""/>
          <p:cNvSpPr/>
          <p:nvPr/>
        </p:nvSpPr>
        <p:spPr>
          <a:xfrm>
            <a:off x="6324480" y="4952880"/>
            <a:ext cx="2590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Linking r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9T23:47:50Z</dcterms:created>
  <dc:creator>bhiksha</dc:creator>
  <dc:description/>
  <dc:language>en-US</dc:language>
  <cp:lastModifiedBy>bhiksha</cp:lastModifiedBy>
  <dcterms:modified xsi:type="dcterms:W3CDTF">2002-05-10T04:56:31Z</dcterms:modified>
  <cp:revision>16</cp:revision>
  <dc:subject/>
  <dc:title>PowerPoint Presentation</dc:title>
</cp:coreProperties>
</file>